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9A6E-8590-4340-8E69-7A4BD85B0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1C1F-37EE-4CFC-9E0F-7F4AFF9D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EC7A-4EEC-4C62-BD61-9EE86BB91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0FD5-ECEB-46E5-A3C5-E14AC98D0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3E2A-084B-4B03-9C72-95F8A1C09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EA60-8974-4F11-B4A9-63FB9640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E94AE-ECF2-4054-B69C-C86FDF6A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42354-95F9-4002-8F9B-9C89C86F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0072-F44F-4C7F-9542-9DA1EE25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D1A3-31D6-4F1F-B99B-EE4501F5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9E18-BC23-4C96-9BC6-5B08ADB1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161D-6EDA-477C-AF62-11DA6FD7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C376-F1CB-4E56-9353-148AED08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0027-7AF4-4A18-A0CE-41B0FAA8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61B5-AF20-48E0-B8D8-4D1C0A5B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5D64-2D27-4DF1-B9DB-649FF84F7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6CBB2-3C31-4E38-890C-76F5C37BB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9533C-CF12-43EC-AE28-2E1B5CC89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388F0-FB99-492B-94EA-6F652813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BC1E6-98C1-4C20-9740-5619EA3C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4994A-C1C0-4B29-BAEA-685A9966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BF60E-8BEE-4938-8F88-22DFC6E4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B1B0-50FF-49EC-B85D-2C6B9055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4378E-883D-47ED-BD5E-A708EB4C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95CB4-D865-4514-9348-7286E609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B984C-9418-4030-8B45-C70C5246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62FDF-0A13-4C47-9960-84B7597D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BFC54-447A-4AE6-8823-9874A060B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078C4-67A4-412A-8CEE-E9C1B1C5C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6CA7F-6304-48CB-BF09-6586C7388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7807F-3801-4CCA-BEBB-6BB80BCFC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2A096-960C-4434-BAEC-F062C994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AA4BD-AA3E-482F-B681-99789D45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AAB1-48BA-41E5-AACC-259A2739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1BA05-A8F4-449F-9215-4355D6B4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DF844-CD1B-406C-B1B8-D1BD416D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6DD3F-B8F1-42D3-89DD-8DCC2DA7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50D68-B103-4617-9ADD-E559C182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0C38C-6898-46E8-9EBE-BA3F4B99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31346-366E-49BA-BA26-55903E5F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72180-E5F1-4604-BCC1-29F354E5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4362A-2761-4650-A307-39609FD2D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488A6-437B-4879-AD73-69C047B92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077A0-2310-4849-93A4-EC26D789C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A2BE-BC11-4631-A358-2A0615E1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484F9-3CB9-4B15-A83B-B587E4E4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DB404-4FCB-4B68-A1E4-008ABE0E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44C2C-3073-43C5-87E1-1FC8A1DD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090A7-B719-40E6-8FF3-5206CBFD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F9C80-8821-469D-B6B1-E0A44CC5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FC966-05E8-4559-873A-F5C746F2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33A71-1EDD-4760-8C3A-0C78299C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36812-8CEE-404A-8C68-0F859888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A00BA-A3E4-4148-8279-4C432D4C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578FE-BA43-4F26-A750-BB9B9BAA5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369C-154E-4CCE-B16C-169713E9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69DD1-A164-4DB8-A3A8-3860A0F9D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E32F5-CF50-4B3D-9991-96F6DD7AD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49600-9FD9-4600-B325-74B929F0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5A3A0-116B-41D7-8FC9-01295CE5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3136B-3851-4B5B-B4E3-EB7947AD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DB534-C8DB-4F82-83EB-A2CBBD0A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F6474-30DC-4A3A-AA29-99C1C13B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2B649-DA34-4D43-8CCE-7A270B07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17B09-D16A-43C2-AFC0-818F16D1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18ECD-30E7-41AE-9440-43CA4DF6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A8BE-B6AF-4D27-9023-DBF4705C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637D4-916B-4144-A36A-0C6960E8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DCD89-19C3-4C8F-9E93-367D2DF6B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0BF2B-293E-40DF-9574-B03903E32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CDAF-2D5A-4A7B-B7B7-43FD6786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C49C-52DE-4299-9D91-92C5C27A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4D83-E1DB-4D79-BD79-8B1ACE5EAF9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227F-844A-44E7-8157-7DB320F4341D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8F55-953C-4C0A-AAE8-22F00DD4C01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EB04-D461-47BF-9622-F1FCE7D37AA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ACC4-17A8-45E2-9A4B-D7982D9404A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Right Triangle 16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Straight Connector 18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3256-BBB3-4016-8F3D-551100F50EA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Title 1" descr=""/>
          <p:cNvPicPr/>
          <p:nvPr/>
        </p:nvPicPr>
        <p:blipFill>
          <a:blip r:embed="rId1"/>
          <a:stretch/>
        </p:blipFill>
        <p:spPr>
          <a:xfrm>
            <a:off x="682560" y="1197000"/>
            <a:ext cx="7785000" cy="155412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85800" y="2643120"/>
            <a:ext cx="7772400" cy="1928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464646"/>
                </a:solidFill>
                <a:latin typeface="Lucida Sans Unicode"/>
              </a:rPr>
              <a:t>22-26 septembre 2008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464646"/>
                </a:solidFill>
                <a:latin typeface="Lucida Sans Unicode"/>
              </a:rPr>
              <a:t>Niame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464646"/>
                </a:solidFill>
                <a:latin typeface="Lucida Sans Unicode"/>
              </a:rPr>
              <a:t>Droit et accès à l’alimentation 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464646"/>
                </a:solidFill>
                <a:latin typeface="Lucida Sans Unicode"/>
              </a:rPr>
              <a:t>les systèmes de transferts sociaux pour combattre l’extrême pauvreté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</a:rPr>
              <a:t>Les raisons d’utiliser les transferts sociaux dans les politiques de développement contre la pauvreté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Les défis à releve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Les controverses sur les transferts sociaux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Une définition des transferts sociaux : de la protection à la promo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</a:rPr>
              <a:t>Les transferts sociaux un cercle vertueux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Impacts économiqu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Impacts sociaux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....mais une mise en oeuvre politiquement et techniquement complex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</a:rPr>
              <a:t>Les arbitrages politiques et techniques à réalise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Quels bénéficiaire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Quelles prestation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Quelles modalités de distribution et de contrôle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457200" y="571680"/>
            <a:ext cx="8229600" cy="54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Lucida Sans Unicode"/>
              </a:rPr>
              <a:t>Les questions en déba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Lucida Sans Unicode"/>
              </a:rPr>
              <a:t>Les transferts sociaux comme instrument d’une stratégie globale de lutte contre la pauvreté 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Lucida Sans Unicode"/>
              </a:rPr>
              <a:t>Le rôle des procédures de support budgétaire et des programmes de sécurité alimentaire dans le développement des transferts sociaux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Lucida Sans Unicode"/>
              </a:rPr>
              <a:t>Quelle institutionalisation et quelle gouvernance pour les systèmes de transferts sociaux 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Lucida Sans Unicode"/>
              </a:rPr>
              <a:t>Le rôle des bénéficiaires dans la définition des programmes qui les concern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Lucida Sans Unicode"/>
              </a:rPr>
              <a:t>Les mesures d’impac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12:20:25Z</dcterms:created>
  <dc:creator>Windows User</dc:creator>
  <dc:description/>
  <dc:language>en-US</dc:language>
  <cp:lastModifiedBy>user</cp:lastModifiedBy>
  <dcterms:modified xsi:type="dcterms:W3CDTF">2008-09-26T10:27:39Z</dcterms:modified>
  <cp:revision>6</cp:revision>
  <dc:subject/>
  <dc:title>Séminaire Sécurité Alimentaire</dc:title>
</cp:coreProperties>
</file>